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568-79F0-42A7-9830-B5059E0E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3D4B-2C98-4B81-8470-A97A1827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0A8-23A2-473A-A872-5B18A030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5C2-D2FE-41D9-9B47-47F2BF2E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349-BF76-464E-A948-F1C0EC70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B58-E0B9-4CDD-8D22-29DF77E0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6D9-9F0B-4151-8282-BC4EB1B2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861-8568-4717-8733-C20F40C1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734-574D-49C6-BDB5-82FA1624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F3F-710E-487E-AF08-D10F1647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ED6-33A3-451F-8015-B2DFE8D7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511-552D-41F8-99DD-88C734FE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1B46-B41A-4531-A86D-957ED1028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1194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4920" y="476280"/>
            <a:ext cx="9142560" cy="253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2205000"/>
            <a:ext cx="2016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司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2205000"/>
            <a:ext cx="583272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滚动几张图（公司环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司活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司最新优惠产品信息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360" y="4149720"/>
            <a:ext cx="1366920" cy="100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滚动产品框参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旁边这种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5440" y="4079880"/>
            <a:ext cx="4175280" cy="2303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372360" y="4005360"/>
            <a:ext cx="24098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5832720" cy="3484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05440" y="907920"/>
            <a:ext cx="1800360" cy="26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司视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先放有广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后要做去广告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7088040" cy="237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6818400" cy="24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13080" y="260280"/>
            <a:ext cx="410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合作伙伴 我们会加入银行 券商 第三方支付平台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172360" y="1628640"/>
            <a:ext cx="79236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漂浮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123</dc:creator>
  <dc:description/>
  <dc:language>en-US</dc:language>
  <cp:lastModifiedBy/>
  <dcterms:modified xsi:type="dcterms:W3CDTF">2013-08-13T02:17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